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31.wmf" ContentType="image/x-wmf"/>
  <Override PartName="/ppt/media/image27.png" ContentType="image/png"/>
  <Override PartName="/ppt/media/image30.wmf" ContentType="image/x-wmf"/>
  <Override PartName="/ppt/media/image26.jpeg" ContentType="image/jpeg"/>
  <Override PartName="/ppt/media/image3.png" ContentType="image/png"/>
  <Override PartName="/ppt/media/image9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14.jpeg" ContentType="image/jpeg"/>
  <Override PartName="/ppt/media/image8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12.jpeg" ContentType="image/jpeg"/>
  <Override PartName="/ppt/media/image13.png" ContentType="image/png"/>
  <Override PartName="/ppt/media/image33.gif" ContentType="image/gif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34.wmf" ContentType="image/x-wmf"/>
  <Override PartName="/ppt/media/image4.wmf" ContentType="image/x-wmf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EE4-2A24-49A6-8AB9-5046FC31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5D9-1FA2-435E-875C-017122C2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BC7-1835-4AF0-8A0B-B5FCC58F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C33-CEC2-40F0-83AE-03DB6FCB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DEC8-6DA8-4D75-9F6C-1004B58A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A86F-B495-4F35-9162-1EDEF828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018D-AE8C-48DD-84C1-5FDCCD09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F9E2-2315-4833-BF58-E5DC522F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611D-E34B-446C-BE12-3DB7C095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95E6-1E1D-4787-83B4-6B04420B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C557-B008-488B-AAC8-E0632890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E46-BADF-4459-A034-AC418D8C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9BD2-88C9-4001-8743-3C41C5D6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D291-C221-42E1-8D80-F1AC22BB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1023-9ABD-4DB0-A13D-D4FA7048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4B5E-1E5C-41C7-B6BC-8300CDCF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737A-AAEB-4220-BE49-EC55D002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054A-C418-4E92-AAA5-E32D6C23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4B42-2ADA-4428-89F6-C6811443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41A-11B3-4B81-A329-1C4D5A5F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A1E-2B0A-40B4-BBAA-5265FF5B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4CA-885C-4FBC-8C3C-C913DE82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161-5C2D-41AE-A971-574F121E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F40-2C22-46B2-A5FF-7A588C67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770A-8AAF-4C02-871E-E8B0EEBD0007}" type="slidenum">
              <a:rPr b="0" lang="pl-P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BA41-780C-494C-9A4D-B46A539261C7}" type="slidenum">
              <a:rPr b="0" lang="pl-PL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30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BS00559_"/>
          <p:cNvPicPr/>
          <p:nvPr/>
        </p:nvPicPr>
        <p:blipFill>
          <a:blip r:embed="rId1"/>
          <a:stretch/>
        </p:blipFill>
        <p:spPr>
          <a:xfrm>
            <a:off x="2895480" y="3505320"/>
            <a:ext cx="3124440" cy="177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matma"/>
          <p:cNvPicPr/>
          <p:nvPr/>
        </p:nvPicPr>
        <p:blipFill>
          <a:blip r:embed="rId2"/>
          <a:stretch/>
        </p:blipFill>
        <p:spPr>
          <a:xfrm>
            <a:off x="1981080" y="1600200"/>
            <a:ext cx="4953240" cy="1523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91856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1905120" y="4495680"/>
                <a:ext cx="13827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Rectangle 9"/>
          <p:cNvSpPr/>
          <p:nvPr/>
        </p:nvSpPr>
        <p:spPr>
          <a:xfrm>
            <a:off x="468360" y="1844640"/>
            <a:ext cx="79185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l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bryła obrotowa powstała przez obrót półkola dookoła prostej, w której zawarta jest średnica tego półkol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środe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romień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wierzchn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objęt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92" name="Group 13"/>
          <p:cNvGrpSpPr/>
          <p:nvPr/>
        </p:nvGrpSpPr>
        <p:grpSpPr>
          <a:xfrm>
            <a:off x="5364000" y="2997360"/>
            <a:ext cx="2524320" cy="2869920"/>
            <a:chOff x="5364000" y="2997360"/>
            <a:chExt cx="2524320" cy="2869920"/>
          </a:xfrm>
        </p:grpSpPr>
        <p:graphicFrame>
          <p:nvGraphicFramePr>
            <p:cNvPr id="193" name="Object 6"/>
            <p:cNvGraphicFramePr/>
            <p:nvPr/>
          </p:nvGraphicFramePr>
          <p:xfrm>
            <a:off x="5364000" y="2997360"/>
            <a:ext cx="2524320" cy="286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64000" y="2997360"/>
                      <a:ext cx="2524320" cy="28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Text Box 11"/>
            <p:cNvSpPr/>
            <p:nvPr/>
          </p:nvSpPr>
          <p:spPr>
            <a:xfrm>
              <a:off x="5486400" y="4343400"/>
              <a:ext cx="18432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6019920" y="4267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Kąt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572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odzaje kątów płaskich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pełny, półpełny, prosty, zero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wypukły, wklęsły, ostry, rozwart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y wierzchołkowe, przyległ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y naprzemianległe, jednostronne, odpowiadając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05160" y="1904760"/>
            <a:ext cx="3352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ąty w okręgu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środko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wpisan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dopisan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0" name="Picture 5" descr="BS01580_"/>
          <p:cNvPicPr/>
          <p:nvPr/>
        </p:nvPicPr>
        <p:blipFill>
          <a:blip r:embed="rId4"/>
          <a:stretch/>
        </p:blipFill>
        <p:spPr>
          <a:xfrm>
            <a:off x="5638680" y="3886200"/>
            <a:ext cx="2146320" cy="19828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5" name="chimes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Działania matematycz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33520" y="1752480"/>
          <a:ext cx="7924680" cy="459288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3505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ział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Zapis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efinicje i własności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odaw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+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+ b = b + a – przemien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a + b) + c = a + (b + c) – łącz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 – element neutralny dodawan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dejmow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 = a + (–b) – odejmowanie jest działaniem odwrotnym do dodawani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Mnoże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 = b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rzemien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)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=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b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) – łącz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 – element neutralny mnożen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ziele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: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jeżeli b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, to a:b = c 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a = b </a:t>
                      </a: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 </a:t>
                      </a:r>
                      <a:br>
                        <a:rPr sz="2000"/>
                      </a:b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dzielenie jest działaniem  odwrotnym do mnożenia 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fade thruBlk="true"/>
    <p:sndAc>
      <p:stSnd>
        <p:snd r:embed="rId1" name="chimes.wav"/>
      </p:stSnd>
    </p:sndAc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Cechy podzielności licz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Liczba naturalna jest podzielna przez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jej ostatnią cyfrą jest 0, 2, 4, 6 albo 8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 gdy suma jej cyfr dzieli się przez 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4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liczba, wyrażona dwiema ostatnimi jej cyframi,     dzieli się przez 4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5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 gdy jej ostatnią cyfrą jest 0 albo 5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6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dzieli się przez 2 i przez 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9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suma jej cyfr dzieli się przez 9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10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ostatnią jej cyfrą jest 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5" name="Picture 6" descr="PE01549_"/>
          <p:cNvPicPr/>
          <p:nvPr/>
        </p:nvPicPr>
        <p:blipFill>
          <a:blip r:embed="rId2"/>
          <a:stretch/>
        </p:blipFill>
        <p:spPr>
          <a:xfrm>
            <a:off x="6629400" y="4038480"/>
            <a:ext cx="1481040" cy="20210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3" name="chimes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5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9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43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0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4">
            <a:hlinkClick r:id="" action="ppaction://hlinkshowjump?jump=firstslide"/>
          </p:cNvPr>
          <p:cNvSpPr/>
          <p:nvPr/>
        </p:nvSpPr>
        <p:spPr>
          <a:xfrm>
            <a:off x="395280" y="2997360"/>
            <a:ext cx="1916280" cy="865080"/>
          </a:xfrm>
          <a:prstGeom prst="bevel">
            <a:avLst>
              <a:gd name="adj" fmla="val 12500"/>
            </a:avLst>
          </a:prstGeom>
          <a:solidFill>
            <a:srgbClr val="c1b0e8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685800" y="1922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Dziękuję za obejrzenie prezentacji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6920" y="1828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Magdalena Judek – LO Kościa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590920" y="3276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Zobacz prezentację jeszcze raz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0" name="AutoShape 6">
            <a:hlinkClick r:id="" action="ppaction://hlinkshowjump?jump=endshow"/>
          </p:cNvPr>
          <p:cNvSpPr/>
          <p:nvPr/>
        </p:nvSpPr>
        <p:spPr>
          <a:xfrm>
            <a:off x="1143000" y="4724280"/>
            <a:ext cx="1916280" cy="865440"/>
          </a:xfrm>
          <a:prstGeom prst="bevel">
            <a:avLst>
              <a:gd name="adj" fmla="val 12500"/>
            </a:avLst>
          </a:prstGeom>
          <a:solidFill>
            <a:srgbClr val="f0c6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581280" y="495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Zakończ pokaz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12" name="Picture 12" descr="1806"/>
          <p:cNvPicPr/>
          <p:nvPr/>
        </p:nvPicPr>
        <p:blipFill>
          <a:blip r:embed="rId2"/>
          <a:stretch/>
        </p:blipFill>
        <p:spPr>
          <a:xfrm>
            <a:off x="1042920" y="3141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j0286034"/>
          <p:cNvPicPr/>
          <p:nvPr/>
        </p:nvPicPr>
        <p:blipFill>
          <a:blip r:embed="rId3"/>
          <a:stretch/>
        </p:blipFill>
        <p:spPr>
          <a:xfrm>
            <a:off x="1835280" y="4869000"/>
            <a:ext cx="576000" cy="555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112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212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3120"/>
                            </p:stCondLst>
                            <p:childTnLst>
                              <p:par>
                                <p:cTn id="52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3620"/>
                            </p:stCondLst>
                            <p:childTnLst>
                              <p:par>
                                <p:cTn id="52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4120"/>
                            </p:stCondLst>
                            <p:childTnLst>
                              <p:par>
                                <p:cTn id="5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Spis treśc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33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64c"/>
                </a:solidFill>
                <a:latin typeface="Times New Roman"/>
              </a:rPr>
              <a:t>Algebr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Zbiory liczbow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Funkcj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wnani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95288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64c"/>
                </a:solidFill>
                <a:latin typeface="Times New Roman"/>
              </a:rPr>
              <a:t>Geometr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oło, okrąg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Prostokąt, kwadra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Trójką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omb, równoległobok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Prostopadłości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Ostrosł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7" name="Picture 5" descr="BS00554_"/>
          <p:cNvPicPr/>
          <p:nvPr/>
        </p:nvPicPr>
        <p:blipFill>
          <a:blip r:embed="rId3"/>
          <a:stretch/>
        </p:blipFill>
        <p:spPr>
          <a:xfrm>
            <a:off x="2666880" y="4114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Pomocne wzory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905120"/>
          <a:ext cx="7772400" cy="4565520"/>
        </p:xfrm>
        <a:graphic>
          <a:graphicData uri="http://schemas.openxmlformats.org/drawingml/2006/table">
            <a:tbl>
              <a:tblPr/>
              <a:tblGrid>
                <a:gridCol w="1943280"/>
                <a:gridCol w="1790640"/>
                <a:gridCol w="2057400"/>
                <a:gridCol w="1981080"/>
              </a:tblGrid>
              <a:tr h="109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igura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zór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– obwód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igura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zór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– obwód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Koło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 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</a:t>
                      </a:r>
                      <a:r>
                        <a:rPr b="1" lang="pl-PL" sz="2000" spc="-1" strike="noStrike" baseline="30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2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odstawa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h – wysokość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, b, c – bok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Trójką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1/2ah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a+b+c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ok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Kwadra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</a:t>
                      </a:r>
                      <a:r>
                        <a:rPr b="1" lang="pl-PL" sz="2000" spc="-1" strike="noStrike" baseline="30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4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odstawa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h – wysokość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pl-PL" sz="16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d</a:t>
                      </a:r>
                      <a:r>
                        <a:rPr b="1" lang="pl-PL" sz="16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– przekątne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ównoległobok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h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1/2d</a:t>
                      </a:r>
                      <a:r>
                        <a:rPr b="1" lang="pl-PL" sz="20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pl-PL" sz="20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n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bsin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6401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, b – bok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stoką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b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2a+2b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00" name="Group 113"/>
          <p:cNvGrpSpPr/>
          <p:nvPr/>
        </p:nvGrpSpPr>
        <p:grpSpPr>
          <a:xfrm>
            <a:off x="914400" y="3048120"/>
            <a:ext cx="914400" cy="838080"/>
            <a:chOff x="914400" y="3048120"/>
            <a:chExt cx="914400" cy="838080"/>
          </a:xfrm>
        </p:grpSpPr>
        <p:grpSp>
          <p:nvGrpSpPr>
            <p:cNvPr id="101" name="Group 89"/>
            <p:cNvGrpSpPr/>
            <p:nvPr/>
          </p:nvGrpSpPr>
          <p:grpSpPr>
            <a:xfrm>
              <a:off x="914400" y="3048120"/>
              <a:ext cx="838080" cy="838080"/>
              <a:chOff x="914400" y="3048120"/>
              <a:chExt cx="838080" cy="838080"/>
            </a:xfrm>
          </p:grpSpPr>
          <p:sp>
            <p:nvSpPr>
              <p:cNvPr id="102" name="Oval 67"/>
              <p:cNvSpPr/>
              <p:nvPr/>
            </p:nvSpPr>
            <p:spPr>
              <a:xfrm>
                <a:off x="914400" y="3048120"/>
                <a:ext cx="838080" cy="8380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03" name="Line 68"/>
              <p:cNvSpPr/>
              <p:nvPr/>
            </p:nvSpPr>
            <p:spPr>
              <a:xfrm>
                <a:off x="1312920" y="3467160"/>
                <a:ext cx="439560" cy="0"/>
              </a:xfrm>
              <a:prstGeom prst="line">
                <a:avLst/>
              </a:prstGeom>
              <a:ln w="1260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111"/>
            <p:cNvSpPr/>
            <p:nvPr/>
          </p:nvSpPr>
          <p:spPr>
            <a:xfrm>
              <a:off x="1371600" y="32767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05" name="Group 121"/>
          <p:cNvGrpSpPr/>
          <p:nvPr/>
        </p:nvGrpSpPr>
        <p:grpSpPr>
          <a:xfrm>
            <a:off x="838080" y="5410080"/>
            <a:ext cx="1752840" cy="733680"/>
            <a:chOff x="838080" y="5410080"/>
            <a:chExt cx="1752840" cy="733680"/>
          </a:xfrm>
        </p:grpSpPr>
        <p:sp>
          <p:nvSpPr>
            <p:cNvPr id="106" name="Rectangle 80"/>
            <p:cNvSpPr/>
            <p:nvPr/>
          </p:nvSpPr>
          <p:spPr>
            <a:xfrm>
              <a:off x="838080" y="5410080"/>
              <a:ext cx="1371600" cy="527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7" name="Text Box 117"/>
            <p:cNvSpPr/>
            <p:nvPr/>
          </p:nvSpPr>
          <p:spPr>
            <a:xfrm>
              <a:off x="2133720" y="55623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8" name="Text Box 118"/>
            <p:cNvSpPr/>
            <p:nvPr/>
          </p:nvSpPr>
          <p:spPr>
            <a:xfrm>
              <a:off x="1371600" y="58672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09" name="Group 120"/>
          <p:cNvGrpSpPr/>
          <p:nvPr/>
        </p:nvGrpSpPr>
        <p:grpSpPr>
          <a:xfrm>
            <a:off x="914400" y="4267080"/>
            <a:ext cx="1066680" cy="885960"/>
            <a:chOff x="914400" y="4267080"/>
            <a:chExt cx="1066680" cy="885960"/>
          </a:xfrm>
        </p:grpSpPr>
        <p:sp>
          <p:nvSpPr>
            <p:cNvPr id="110" name="Rectangle 72"/>
            <p:cNvSpPr/>
            <p:nvPr/>
          </p:nvSpPr>
          <p:spPr>
            <a:xfrm>
              <a:off x="914400" y="4267080"/>
              <a:ext cx="685800" cy="68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1" name="Text Box 115"/>
            <p:cNvSpPr/>
            <p:nvPr/>
          </p:nvSpPr>
          <p:spPr>
            <a:xfrm>
              <a:off x="1523880" y="44496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2" name="Text Box 119"/>
            <p:cNvSpPr/>
            <p:nvPr/>
          </p:nvSpPr>
          <p:spPr>
            <a:xfrm>
              <a:off x="1143000" y="48765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3" name="Group 124"/>
          <p:cNvGrpSpPr/>
          <p:nvPr/>
        </p:nvGrpSpPr>
        <p:grpSpPr>
          <a:xfrm>
            <a:off x="4572000" y="3048120"/>
            <a:ext cx="762120" cy="1027080"/>
            <a:chOff x="4572000" y="3048120"/>
            <a:chExt cx="762120" cy="1027080"/>
          </a:xfrm>
        </p:grpSpPr>
        <p:grpSp>
          <p:nvGrpSpPr>
            <p:cNvPr id="114" name="Group 94"/>
            <p:cNvGrpSpPr/>
            <p:nvPr/>
          </p:nvGrpSpPr>
          <p:grpSpPr>
            <a:xfrm>
              <a:off x="4572000" y="3048120"/>
              <a:ext cx="762120" cy="838080"/>
              <a:chOff x="4572000" y="3048120"/>
              <a:chExt cx="762120" cy="838080"/>
            </a:xfrm>
          </p:grpSpPr>
          <p:sp>
            <p:nvSpPr>
              <p:cNvPr id="115" name="AutoShape 90"/>
              <p:cNvSpPr/>
              <p:nvPr/>
            </p:nvSpPr>
            <p:spPr>
              <a:xfrm>
                <a:off x="4572000" y="3048120"/>
                <a:ext cx="762120" cy="838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16" name="Line 93"/>
              <p:cNvSpPr/>
              <p:nvPr/>
            </p:nvSpPr>
            <p:spPr>
              <a:xfrm>
                <a:off x="4953240" y="3068280"/>
                <a:ext cx="0" cy="817560"/>
              </a:xfrm>
              <a:prstGeom prst="line">
                <a:avLst/>
              </a:prstGeom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17" name="Text Box 122"/>
            <p:cNvSpPr/>
            <p:nvPr/>
          </p:nvSpPr>
          <p:spPr>
            <a:xfrm>
              <a:off x="4902120" y="3419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8" name="Text Box 123"/>
            <p:cNvSpPr/>
            <p:nvPr/>
          </p:nvSpPr>
          <p:spPr>
            <a:xfrm>
              <a:off x="4833000" y="3798720"/>
              <a:ext cx="24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9" name="Group 153"/>
          <p:cNvGrpSpPr/>
          <p:nvPr/>
        </p:nvGrpSpPr>
        <p:grpSpPr>
          <a:xfrm>
            <a:off x="4497840" y="4267080"/>
            <a:ext cx="1931040" cy="1297080"/>
            <a:chOff x="4497840" y="4267080"/>
            <a:chExt cx="1931040" cy="1297080"/>
          </a:xfrm>
        </p:grpSpPr>
        <p:grpSp>
          <p:nvGrpSpPr>
            <p:cNvPr id="120" name="Group 152"/>
            <p:cNvGrpSpPr/>
            <p:nvPr/>
          </p:nvGrpSpPr>
          <p:grpSpPr>
            <a:xfrm>
              <a:off x="4524120" y="4267080"/>
              <a:ext cx="1904760" cy="1297080"/>
              <a:chOff x="4524120" y="4267080"/>
              <a:chExt cx="1904760" cy="1297080"/>
            </a:xfrm>
          </p:grpSpPr>
          <p:grpSp>
            <p:nvGrpSpPr>
              <p:cNvPr id="121" name="Group 133"/>
              <p:cNvGrpSpPr/>
              <p:nvPr/>
            </p:nvGrpSpPr>
            <p:grpSpPr>
              <a:xfrm>
                <a:off x="4524120" y="4267080"/>
                <a:ext cx="1904760" cy="1066320"/>
                <a:chOff x="4524120" y="4267080"/>
                <a:chExt cx="1904760" cy="1066320"/>
              </a:xfrm>
            </p:grpSpPr>
            <p:sp>
              <p:nvSpPr>
                <p:cNvPr id="122" name="AutoShape 97"/>
                <p:cNvSpPr/>
                <p:nvPr/>
              </p:nvSpPr>
              <p:spPr>
                <a:xfrm>
                  <a:off x="4524120" y="4267080"/>
                  <a:ext cx="1904760" cy="1066320"/>
                </a:xfrm>
                <a:prstGeom prst="parallelogram">
                  <a:avLst>
                    <a:gd name="adj" fmla="val 44657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98"/>
                <p:cNvSpPr/>
                <p:nvPr/>
              </p:nvSpPr>
              <p:spPr>
                <a:xfrm flipV="1">
                  <a:off x="4524120" y="4267080"/>
                  <a:ext cx="190476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99"/>
                <p:cNvSpPr/>
                <p:nvPr/>
              </p:nvSpPr>
              <p:spPr>
                <a:xfrm>
                  <a:off x="5013000" y="4267080"/>
                  <a:ext cx="92664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00"/>
                <p:cNvSpPr/>
                <p:nvPr/>
              </p:nvSpPr>
              <p:spPr>
                <a:xfrm>
                  <a:off x="5013000" y="4267080"/>
                  <a:ext cx="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Text Box 135"/>
              <p:cNvSpPr/>
              <p:nvPr/>
            </p:nvSpPr>
            <p:spPr>
              <a:xfrm>
                <a:off x="5190120" y="528768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7" name="Text Box 136"/>
              <p:cNvSpPr/>
              <p:nvPr/>
            </p:nvSpPr>
            <p:spPr>
              <a:xfrm>
                <a:off x="5672160" y="4349520"/>
                <a:ext cx="301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d</a:t>
                </a:r>
                <a:r>
                  <a:rPr b="0" lang="pl-PL" sz="1200" spc="-1" strike="noStrike" baseline="-25000">
                    <a:solidFill>
                      <a:srgbClr val="00264c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8" name="Text Box 138"/>
              <p:cNvSpPr/>
              <p:nvPr/>
            </p:nvSpPr>
            <p:spPr>
              <a:xfrm>
                <a:off x="6165720" y="46987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9" name="Arc 140"/>
              <p:cNvSpPr/>
              <p:nvPr/>
            </p:nvSpPr>
            <p:spPr>
              <a:xfrm>
                <a:off x="4600440" y="5181480"/>
                <a:ext cx="152280" cy="152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30" name="Arc 144"/>
              <p:cNvSpPr/>
              <p:nvPr/>
            </p:nvSpPr>
            <p:spPr>
              <a:xfrm flipV="1">
                <a:off x="5610240" y="4701240"/>
                <a:ext cx="152280" cy="265320"/>
              </a:xfrm>
              <a:custGeom>
                <a:avLst/>
                <a:gdLst/>
                <a:ahLst/>
                <a:rect l="l" t="t" r="r" b="b"/>
                <a:pathLst>
                  <a:path fill="none" w="21600" h="42445">
                    <a:moveTo>
                      <a:pt x="3529" y="0"/>
                    </a:moveTo>
                    <a:cubicBezTo>
                      <a:pt x="13954" y="1727"/>
                      <a:pt x="21600" y="10742"/>
                      <a:pt x="21600" y="21310"/>
                    </a:cubicBezTo>
                    <a:cubicBezTo>
                      <a:pt x="21600" y="31521"/>
                      <a:pt x="14448" y="-25198"/>
                      <a:pt x="4456" y="-23091"/>
                    </a:cubicBezTo>
                  </a:path>
                  <a:path stroke="0" w="21600" h="42445">
                    <a:moveTo>
                      <a:pt x="3529" y="0"/>
                    </a:moveTo>
                    <a:cubicBezTo>
                      <a:pt x="13954" y="1727"/>
                      <a:pt x="21600" y="10742"/>
                      <a:pt x="21600" y="21310"/>
                    </a:cubicBezTo>
                    <a:cubicBezTo>
                      <a:pt x="21600" y="31521"/>
                      <a:pt x="14448" y="-25198"/>
                      <a:pt x="4456" y="-23091"/>
                    </a:cubicBezTo>
                    <a:lnTo>
                      <a:pt x="0" y="21310"/>
                    </a:lnTo>
                    <a:lnTo>
                      <a:pt x="3529" y="0"/>
                    </a:lnTo>
                    <a:close/>
                  </a:path>
                </a:pathLst>
              </a:cu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 Box 150"/>
            <p:cNvSpPr/>
            <p:nvPr/>
          </p:nvSpPr>
          <p:spPr>
            <a:xfrm>
              <a:off x="4497840" y="5089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α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2" name="Text Box 151"/>
            <p:cNvSpPr/>
            <p:nvPr/>
          </p:nvSpPr>
          <p:spPr>
            <a:xfrm>
              <a:off x="5497200" y="46418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φ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3" name="Text Box 134"/>
            <p:cNvSpPr/>
            <p:nvPr/>
          </p:nvSpPr>
          <p:spPr>
            <a:xfrm>
              <a:off x="4962240" y="46339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4" name="Text Box 137"/>
            <p:cNvSpPr/>
            <p:nvPr/>
          </p:nvSpPr>
          <p:spPr>
            <a:xfrm>
              <a:off x="5656320" y="4862520"/>
              <a:ext cx="3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d</a:t>
              </a:r>
              <a:r>
                <a:rPr b="0" lang="pl-PL" sz="1200" spc="-1" strike="noStrike" baseline="-25000">
                  <a:solidFill>
                    <a:srgbClr val="00264c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p:transition spd="med" advTm="20000">
    <p:fade thruBlk="true"/>
    <p:sndAc>
      <p:stSnd>
        <p:snd r:embed="rId6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zory skróconego mnożeni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wadrat sum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wadrat różnic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żnica kwadrat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 sum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 różnic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uma sześcian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żnica sześcian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419360" y="1904760"/>
            <a:ext cx="472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+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2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–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 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2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– b)(a + b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+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3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b + 3a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–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3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b+3a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+ b)(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– b)(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9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ielościany forem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16000" y="1052640"/>
          <a:ext cx="7561440" cy="5761080"/>
        </p:xfrm>
        <a:graphic>
          <a:graphicData uri="http://schemas.openxmlformats.org/drawingml/2006/table">
            <a:tbl>
              <a:tblPr/>
              <a:tblGrid>
                <a:gridCol w="1890720"/>
                <a:gridCol w="2000160"/>
                <a:gridCol w="1779840"/>
                <a:gridCol w="1890720"/>
              </a:tblGrid>
              <a:tr h="12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ielościan foremny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krawędzi a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atka wielościanu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 promień kuli o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 promień kuli w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 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mień kuli stycznej do krawędzi wielościanu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 pole powierzchni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 –  objętość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46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zworościan (tetr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5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ześcian (heks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kwadraty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śmiościan (okto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Object 68"/>
          <p:cNvGraphicFramePr/>
          <p:nvPr/>
        </p:nvGraphicFramePr>
        <p:xfrm>
          <a:off x="1619280" y="5300640"/>
          <a:ext cx="108252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6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5300640"/>
                    <a:ext cx="10825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3"/>
          <p:cNvGraphicFramePr/>
          <p:nvPr/>
        </p:nvGraphicFramePr>
        <p:xfrm>
          <a:off x="3276720" y="5229360"/>
          <a:ext cx="1368360" cy="9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Object 7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5229360"/>
                    <a:ext cx="1368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" name="Object 104"/>
              <p:cNvSpPr txBox="1"/>
              <p:nvPr/>
            </p:nvSpPr>
            <p:spPr>
              <a:xfrm>
                <a:off x="5580000" y="5300640"/>
                <a:ext cx="78264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56"/>
          <p:cNvGraphicFramePr/>
          <p:nvPr/>
        </p:nvGraphicFramePr>
        <p:xfrm>
          <a:off x="1547640" y="2421000"/>
          <a:ext cx="1224000" cy="93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Object 5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2421000"/>
                    <a:ext cx="122400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71"/>
          <p:cNvGraphicFramePr/>
          <p:nvPr/>
        </p:nvGraphicFramePr>
        <p:xfrm>
          <a:off x="3276720" y="2349360"/>
          <a:ext cx="1242720" cy="9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" name="Object 7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76720" y="2349360"/>
                    <a:ext cx="12427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9" name="Object 102"/>
              <p:cNvSpPr txBox="1"/>
              <p:nvPr/>
            </p:nvSpPr>
            <p:spPr>
              <a:xfrm>
                <a:off x="5435640" y="2349360"/>
                <a:ext cx="87948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05"/>
              <p:cNvSpPr txBox="1"/>
              <p:nvPr/>
            </p:nvSpPr>
            <p:spPr>
              <a:xfrm>
                <a:off x="7308720" y="2492280"/>
                <a:ext cx="9050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51" name="Object 62"/>
          <p:cNvGraphicFramePr/>
          <p:nvPr/>
        </p:nvGraphicFramePr>
        <p:xfrm>
          <a:off x="1692360" y="3933720"/>
          <a:ext cx="718920" cy="719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" name="Object 6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92360" y="3933720"/>
                    <a:ext cx="718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72"/>
          <p:cNvGraphicFramePr/>
          <p:nvPr/>
        </p:nvGraphicFramePr>
        <p:xfrm>
          <a:off x="3348000" y="3860640"/>
          <a:ext cx="1224000" cy="811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4" name="Object 7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48000" y="3860640"/>
                    <a:ext cx="12240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Object 103"/>
              <p:cNvSpPr txBox="1"/>
              <p:nvPr/>
            </p:nvSpPr>
            <p:spPr>
              <a:xfrm>
                <a:off x="5508720" y="3789360"/>
                <a:ext cx="7347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6"/>
              <p:cNvSpPr txBox="1"/>
              <p:nvPr/>
            </p:nvSpPr>
            <p:spPr>
              <a:xfrm>
                <a:off x="7308720" y="4005360"/>
                <a:ext cx="7956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07"/>
              <p:cNvSpPr txBox="1"/>
              <p:nvPr/>
            </p:nvSpPr>
            <p:spPr>
              <a:xfrm>
                <a:off x="7164360" y="5516640"/>
                <a:ext cx="10288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 advTm="20000">
    <p:fade thruBlk="true"/>
    <p:sndAc>
      <p:stSnd>
        <p:snd r:embed="rId14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ielościany forem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905120"/>
          <a:ext cx="7989840" cy="4574880"/>
        </p:xfrm>
        <a:graphic>
          <a:graphicData uri="http://schemas.openxmlformats.org/drawingml/2006/table">
            <a:tbl>
              <a:tblPr/>
              <a:tblGrid>
                <a:gridCol w="1996920"/>
                <a:gridCol w="2146320"/>
                <a:gridCol w="1849680"/>
                <a:gridCol w="1996920"/>
              </a:tblGrid>
              <a:tr h="12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ielościan foremny o krawędzi a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atka wielościanu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 kuli o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 kuli w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mień kuli stycznej do krawędzi wielościanu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 powierzchni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 – objętość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439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wunastościan (dodek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pięciokąty foremne</a:t>
                      </a:r>
                      <a:endParaRPr b="0" lang="en-US" sz="13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8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wudziestościan (ikos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Object 47"/>
          <p:cNvGraphicFramePr/>
          <p:nvPr/>
        </p:nvGraphicFramePr>
        <p:xfrm>
          <a:off x="1116000" y="3213000"/>
          <a:ext cx="1081080" cy="9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Object 4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213000"/>
                    <a:ext cx="10810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9"/>
          <p:cNvGraphicFramePr/>
          <p:nvPr/>
        </p:nvGraphicFramePr>
        <p:xfrm>
          <a:off x="2771640" y="3357720"/>
          <a:ext cx="1818000" cy="97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Object 4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3357720"/>
                    <a:ext cx="18180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82"/>
              <p:cNvSpPr txBox="1"/>
              <p:nvPr/>
            </p:nvSpPr>
            <p:spPr>
              <a:xfrm>
                <a:off x="5003640" y="3244680"/>
                <a:ext cx="15242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83"/>
              <p:cNvSpPr txBox="1"/>
              <p:nvPr/>
            </p:nvSpPr>
            <p:spPr>
              <a:xfrm>
                <a:off x="6732720" y="3357720"/>
                <a:ext cx="1879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6" name="Object 48"/>
          <p:cNvGraphicFramePr/>
          <p:nvPr/>
        </p:nvGraphicFramePr>
        <p:xfrm>
          <a:off x="900000" y="4797360"/>
          <a:ext cx="1332000" cy="114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7" name="Object 4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4797360"/>
                    <a:ext cx="13320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50"/>
          <p:cNvGraphicFramePr/>
          <p:nvPr/>
        </p:nvGraphicFramePr>
        <p:xfrm>
          <a:off x="2771640" y="4869000"/>
          <a:ext cx="1855800" cy="94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9" name="Object 5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71640" y="4869000"/>
                    <a:ext cx="1855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0" name="Object 85"/>
              <p:cNvSpPr txBox="1"/>
              <p:nvPr/>
            </p:nvSpPr>
            <p:spPr>
              <a:xfrm>
                <a:off x="5003640" y="4724280"/>
                <a:ext cx="15084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6"/>
              <p:cNvSpPr txBox="1"/>
              <p:nvPr/>
            </p:nvSpPr>
            <p:spPr>
              <a:xfrm>
                <a:off x="6804000" y="4869000"/>
                <a:ext cx="1728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 advTm="20000">
    <p:fade thruBlk="true"/>
    <p:sndAc>
      <p:stSnd>
        <p:snd r:embed="rId10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Graniastosłup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rosty to graniastosłup, w którym krawędzie boczne są prostopadłe do podsta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rawidłowy to graniastosłup prosty, którego podstawy są wielokątami foremny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ochyły to graniastosłup, w którym krawędzie boczne nie są prostopadłe do podsta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Prostopadłościan to graniastosłup, którego wszystkie ściany są prostokąta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Sześcian to prostopadłościan, którego wszystkie krawędzie mają jednakową długość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Równoległościan to graniastosłup, którego wszystkie ściany są równoległoboka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2" name="chimes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172200" y="1905120"/>
            <a:ext cx="2362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352680" y="1905120"/>
            <a:ext cx="2590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77" name="Object 11"/>
          <p:cNvGraphicFramePr/>
          <p:nvPr/>
        </p:nvGraphicFramePr>
        <p:xfrm>
          <a:off x="5508720" y="3141720"/>
          <a:ext cx="1744560" cy="27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3141720"/>
                    <a:ext cx="17445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14"/>
          <p:cNvSpPr/>
          <p:nvPr/>
        </p:nvSpPr>
        <p:spPr>
          <a:xfrm>
            <a:off x="685800" y="1905120"/>
            <a:ext cx="7918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ale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bryła obrotowa powstała przez obrót prostokąta dookoła prostej zawierającej jeden z boków prostokąt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wysokość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romień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wierzchni bocznej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objęt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6"/>
              <p:cNvSpPr txBox="1"/>
              <p:nvPr/>
            </p:nvSpPr>
            <p:spPr>
              <a:xfrm>
                <a:off x="2463840" y="5181480"/>
                <a:ext cx="12542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rh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Text Box 17"/>
          <p:cNvSpPr/>
          <p:nvPr/>
        </p:nvSpPr>
        <p:spPr>
          <a:xfrm>
            <a:off x="4114800" y="55627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91856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5651640" y="2781360"/>
          <a:ext cx="1930320" cy="30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781360"/>
                    <a:ext cx="193032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763640" y="4437000"/>
                <a:ext cx="15112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πr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Rectangle 7"/>
          <p:cNvSpPr/>
          <p:nvPr/>
        </p:nvSpPr>
        <p:spPr>
          <a:xfrm>
            <a:off x="468360" y="1844640"/>
            <a:ext cx="79185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toż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bryła obrotowa powstała przez obrót trójkąta prostokątnego dookoła prostej zawierającej jedn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przyprostokątnych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 wysok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 tworząc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 promień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7T18:15:46Z</dcterms:created>
  <dc:creator/>
  <dc:description/>
  <dc:language>en-US</dc:language>
  <cp:lastModifiedBy>MK</cp:lastModifiedBy>
  <dcterms:modified xsi:type="dcterms:W3CDTF">2012-03-18T16:39:35Z</dcterms:modified>
  <cp:revision>77</cp:revision>
  <dc:subject/>
  <dc:title>Matematyka</dc:title>
</cp:coreProperties>
</file>